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91B8-7B34-4071-A747-240C94D1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F1A4-E54B-45EC-B246-4AD45204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8506-2A31-4A21-892A-E542D486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9C66-D9E6-4FC3-AA52-2075FE38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B420-7264-4466-9D51-FB7F7759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5B2A-E613-418A-99FC-BD10E9FF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24BE-E687-446A-A4A5-81023B5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9B9-DAD0-4331-8A74-E19EDC50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344-B152-454B-A000-ACFB5C5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1347-9A5C-4E66-BFA8-86FB85EF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2068-1713-4D06-B3E0-5C1D566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2CFA-365B-4568-BB5A-EEB6CAA1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56DB-D358-4EB6-87A7-03CE76E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B3D8-9BC9-4E56-9A5E-39C3FB0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C80C-B789-44EE-9F72-87585CB7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ADF5-DBA6-4F10-9875-66560DF2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63D-3496-464A-B612-BD14EECF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0617-4499-43C7-82AC-BB90A5B9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A967-45A3-42A0-BE38-900E0F7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2131-92D7-4535-B661-3F697633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7C38-67A0-46C7-B965-34199C86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33A1-3617-4CBF-AFA2-73EDAFC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9709-F2BF-492E-8D90-28858C3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E077-9B93-4084-8C30-D33AD6A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9E1C-9188-485E-988A-BB51850343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6FE-C47A-431D-AB8E-627F1448B4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Bradley Hand ITC TT-Bold"/>
              </a:rPr>
              <a:t>Le Conditionn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</a:rPr>
              <a:t>or, saying what you WOULD do, in French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 TT-Bold"/>
              </a:rPr>
              <a:t>How do I form the Conditiona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Start with the stem for the Future Te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-er &amp; -ir - infinitive, -re infinitive minus 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Add the endings of the Imperfect Ten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-ais, -ais, -ait, -ions, -iez, -a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Exemples: 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je parle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je fini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je vend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 TT-Bold"/>
              </a:rPr>
              <a:t>How about irregulars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radley Hand ITC TT-Bold"/>
              </a:rPr>
              <a:t>Irregulars also have the same stem as for the Future, plus the endings of the Imper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être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e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se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u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’au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faire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fe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fe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lle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i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’i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de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dev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dev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pou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pour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pour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oul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oud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oud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en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iend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iend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er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errais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 TT-Bold"/>
              </a:rPr>
              <a:t>When do I use it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Use the Conditional to mean “would...” when there is a condition on the action - NOT when it’s a past ha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oudrais une glace (si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I’d like an ice cream (if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The French Conditional is parallel to the English in “if” constru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For example: If I had the money, I would go to F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i j’avais l’argent, j’irais en F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Bradley Hand ITC TT-Bold"/>
              </a:rPr>
              <a:t>Par exemple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Si j’étais en Provence, je resterais quelques jours à Avignon, où je danserais sur le pont et visiterais le Palais des Pa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9200" y="1981080"/>
            <a:ext cx="40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Bradley Hand ITC TT-Bold"/>
              </a:rPr>
              <a:t>Un autre exemple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Si j’étais sur la côte Atlantique, j’irais à Royan, où je me bronzerais sur la belle plage qui s’appelle La Grande Conche et où je verrais des bâtiments reconstruits après la Seconde Guerre Mond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2203560"/>
            <a:ext cx="40384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Bradley Hand ITC TT-Bold"/>
              </a:rPr>
              <a:t>Traduisez...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i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nous dînerions en v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il serait de retour à 6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tu pourrais voir ce fil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elle enverrait la lett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nous le fer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je verrais mes am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elle n’aurait pas fa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ils resteraient chez eu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 TT-Bold"/>
              </a:rPr>
              <a:t>Express in French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 would write a letter, bu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We would have to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She would like to see 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Would you go by pla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He’d buy the tickets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 would be happ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They would come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He would pay me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She would ea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 would have more money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37:59Z</dcterms:created>
  <dc:creator>Julia Brown</dc:creator>
  <dc:description/>
  <dc:language>en-US</dc:language>
  <cp:lastModifiedBy>Ministry of Education</cp:lastModifiedBy>
  <dcterms:modified xsi:type="dcterms:W3CDTF">2009-05-06T20:22:06Z</dcterms:modified>
  <cp:revision>5</cp:revision>
  <dc:subject/>
  <dc:title>Le Conditionnel</dc:title>
</cp:coreProperties>
</file>